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4600575" cy="6846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273-B847-434A-9869-9FF3ADB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CF5-94AA-4E14-A866-0F2429F6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7C0-F877-43D1-8E13-B9B36843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459-4B1A-413D-9EF3-6357B309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149-98C8-42F2-AC2D-5D8EEC6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9EF-99A7-46E7-B312-E17C2B54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64A-DF46-46A8-8559-5AF9A05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5BF-4E03-40B2-B1F3-FF2458D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EB1-3E6B-415D-9745-D8B77A1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F90-4759-46EB-8090-6347755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1F9-E5DC-4F3D-AC93-F333F180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F95-9F45-4831-8757-B82CEE4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05C7-1362-447F-9D76-32F7DECAD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cal Aspects of Bio-Fuels for Their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. L. C. Me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fence Institute of Bio-Energy Research (DR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ject Site: Secundera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24656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l. 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S 15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N 14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STM D 6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Density @15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kg/m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860-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860-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Kinematic Viscosity at 40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c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.5-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.5-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.9-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Flash point, 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Sulfur, ppm, 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arbon Residue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Sulfated Ash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nsity is achieved after the completion ot transester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iscosity is achieved after transesterification, exception: castor oil based methyl e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iscosity range is low for EN 142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lash point is dependent upon the extent of removal of excess methanol used during biodiesel prepa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 content, sulfated ash and carbon residue depends upon the use of sulfuric acid, other alkali catalyst and the presence of impurities in the o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l. 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S 15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N 14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STM D 6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Water content, ppm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tal contamination, ppm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opper corrosion, 3h at 50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etane number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Acid Value, mgKOH/g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ethanol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content: efficiency of water removal from biodiesel after wash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tal contaminants: solid impurity particles in biodies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pper strip corrosion is easily achie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etane number is achieved for biodiesel easily, specific to oi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 value of biodiesel dependent upon transesterification process, the value increases on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thanol content is dependent upon efficiency of removal from biodiesel and affect the flash poi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914400"/>
          <a:ext cx="8229600" cy="59594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l. 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S 15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N 14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STM D 6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Ester content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9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9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Linolenic acid methyl ester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Polyunsaturated (≥ 4 double bonds) methyl esters, %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onoglyceride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Diglyceride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riglyceride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 content, glycerol and the glycerides are crucial parameter and achieved after complete conversion of oil to methyl e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nolenic acid methyl ester and poly-unsaturated methyl esters are dependent upon the oil source, affect the oxidative stability of methyl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600200"/>
          <a:ext cx="8229600" cy="490680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l. 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S 15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N 14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STM D 6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Free Glycerol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tal Glycerol, % by mas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Phosphorus, ppm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Sodium and Potassium, ppm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alcium and Magnesium, ppm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limit of Na, K are specified so that the alkali used transesterification is efficiently removed during post-transeserification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 content is due to phospholipid present in the oil and also due to the use of phosphoric acid during degumming of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l. 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S 15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N 14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STM D 6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Iodine Value, gI</a:t>
                      </a:r>
                      <a:r>
                        <a:rPr b="0" lang="en-US" sz="2000" spc="-1" strike="noStrike" baseline="-25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/100g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xidation Stability at 110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h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loud Point, 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To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Distillation T90 AET, 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Cold Soak Filtration Test, seconds, </a:t>
                      </a:r>
                      <a:r>
                        <a:rPr b="0" i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200 (for use in temp below -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odine value is specific to the feed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igher its value affect the oxidative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wer value result poor cold flow characteris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 of biodies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ude oil importing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19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ustrial Asp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Storage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ability has been achieved for biodiesel derived from palm 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quires synthetic antioxidants as additives to meet the stability properties, exception is palm based bio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otal contamin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parameter is achievable after series of fil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reproducibility of the method is quite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ustrial Asp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rage Asp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odiesel has good solvent property and may dissolve polymeric material on long term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tallic container with exposed metals may act as catalysis for  oxidation/hydrolysis and other unwanted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anks made up of aluminium, teflon or fluorinated polyethylene of polypropylene should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utdoor tanks should be kept in cool shaded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 Asp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actical concern has been observed by research for using biodiesel in existing diesel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odiesel having good solvency may dissolve the sediment caused by diesel and may lead to fuel filter c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y require to replace filter initially when shifting diesel to bio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 Asp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odiesel has theoretically 10% less heating value compared to diesel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lightly low pulling power (2%) may be observed with biodiesel B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 generation biofu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gnocellulose derived ethan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reen diesel by F-T process is superior to petro-diesel in many asp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igh cetane, zero sulfur and polyaromatics for green 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ude oil import by Ind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0280" y="1523880"/>
            <a:ext cx="800424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tional Policy on Bio-Fuels (2008-0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arget to blend 20% biofuel (Biodiesel/ Bioethanol) by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hieved 1.37% blending of ethanol with pe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apable to produce  biodiesel140-300 million litre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sis of biofu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Generation Biofuels: from oilseed and crop sources, i.e. ethanol and bio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n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Generation Biofuels: agricultural waster and residues: lignocellulosic ethanol, green diesel, bio-butanol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Generation Biofuels: from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Generation Biofuels: Genetically modified plant derived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-ethan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rived from sugarcane, sweet sorghum, sugar beet and cass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veloped standard IS 2796 (2008) for gasoline blended with 5% and 10% eth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diesel as alternate to dies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iodiesel has the advantages over conventional diesel f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w sulf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 polyaroma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igh flash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cellent lubri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odegrad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Quality achieved by complete transesterification of the triglyceride o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diesel Quality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iodiesel standard has been developed to ens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mplete conversion of tiglyceride oil to fatty acid methyl esters (Biodies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odiesel as fuel in compression ignition eng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S 15607:2005 has been developed in Indian context which is Indian version of EN 12414 and ASTM D 67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ation of biodie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S 15607 in India for multiple non-edible oil feedst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 14214 in European countries (for biodiesel from rapeseed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STM D 6751 in United States (for biodiesel derived from soybean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he international biodiesel specification has the importance at the time of export of biodiesel to respective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04:30:42Z</dcterms:created>
  <dc:creator>hi</dc:creator>
  <dc:description/>
  <dc:language>en-US</dc:language>
  <cp:lastModifiedBy>L C Meher</cp:lastModifiedBy>
  <dcterms:modified xsi:type="dcterms:W3CDTF">2015-09-10T14:39:48Z</dcterms:modified>
  <cp:revision>24</cp:revision>
  <dc:subject/>
  <dc:title>Slide 1</dc:title>
</cp:coreProperties>
</file>